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14.wmf" ContentType="image/x-wmf"/>
  <Override PartName="/ppt/media/image6.png" ContentType="image/png"/>
  <Override PartName="/ppt/media/image11.gif" ContentType="image/gif"/>
  <Override PartName="/ppt/media/image34.wmf" ContentType="image/x-wmf"/>
  <Override PartName="/ppt/media/image7.wmf" ContentType="image/x-wmf"/>
  <Override PartName="/ppt/media/image12.png" ContentType="image/png"/>
  <Override PartName="/ppt/media/image29.png" ContentType="image/png"/>
  <Override PartName="/ppt/media/image32.wmf" ContentType="image/x-wmf"/>
  <Override PartName="/ppt/media/image10.png" ContentType="image/png"/>
  <Override PartName="/ppt/media/image5.wmf" ContentType="image/x-wmf"/>
  <Override PartName="/ppt/media/image4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media/image15.wmf" ContentType="image/x-wmf"/>
  <Override PartName="/ppt/media/image16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EC6-27FF-4D12-AFCD-0AF100D8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6E9-93AE-4494-B91B-4AED7A49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31431-3A13-48CD-A68F-550E9DCF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3CD21-D370-46C0-9702-9376E0EF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10315-E083-458B-8980-B0081957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54066-2FEE-4C20-A808-B36DF5B1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C5049-BE45-4D46-B091-CF608FF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C8039-D916-4141-A2DF-2604CF5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9F2AC-46C2-429F-A118-BF92CF4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31F8E-2F08-41F1-99B4-120DEC30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C2CA1-D455-44C1-872A-3F5E4078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A8B23-936D-401B-9915-C531EB28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B61-AB63-4B69-8D54-D509854C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31C97-2C9C-4039-9B9F-F7996B85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F0DD3-7400-4CFA-8BFD-7D9E6005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86852-62AC-4E7C-9EF5-362741AB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920CA-DA64-4D39-8C03-63F543B3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49E7C-35FE-4154-8A88-B1CDE17F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0B94C-1DC8-4AD8-AEF8-9354F7C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2622C-3C0F-4DE9-96DC-03ADDAE7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33A59-A25B-4297-8582-36ACCD85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3D5BA-DC17-4AB8-8DFC-4AE5F958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28298-53EB-4AB5-B981-CD58CF91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027-550C-4FCF-BD87-8426AEDB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CA824-4E24-4286-B312-578DCEE8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848E7-4F5F-4303-98B8-0D9F5406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8FB75-1EF5-4EC9-A86F-C1F6FF5F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A4746-55EA-4E72-A1B0-98087F8A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AD415-6209-48F5-82AD-89BFD3AF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CC22A-8E5F-498C-8141-C89C0FDA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042B0-F4E8-447D-B338-0C177D68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884B3-44DE-4372-8405-2467D6A3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CE944-C9DB-4B25-A868-7115405D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24B1F-991D-4383-ADAA-EC058B9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7621-0B89-4944-A45D-6995E7D4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62115-97FB-4081-9563-64B5EB90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E6EA8-9546-4976-B412-0C24AF66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9DEFC-43A6-4679-8AC8-F6D5082D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701AA-565B-406A-83C4-A36967D7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F88EA-E3BF-43FC-AFE8-8DDBBF49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7E1B2-32E0-4675-B631-1BF5FA9E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3FCD8-40D2-4113-8158-2113EB87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B42CD-BB37-4BD1-A9AF-EECC8890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DD4CE-EFF1-4815-B020-0F09625D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3751F-9A0E-4ADF-87DD-EF4ADC7E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60C3-B699-4C60-9AD6-309B0CE8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54F0A-B527-4B8E-A260-7DBB0F8E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3D9E4-2FBF-4DB2-A5EF-3C40E72F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CCCBB-A97C-41D4-8B6F-92242391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AEAF8-D304-4201-A5DE-1BA56EE4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E7572-1E66-45A4-85FF-749698B9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8959-4AEE-4A29-8684-5B754C30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2272-976C-4A88-90AA-D07538B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7879-80E1-4418-88F2-C6959521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8938-2022-4171-8AF3-4E53F3E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ACB2-474D-48E0-B6D6-D91F5260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270-DF80-4E20-8264-617E8540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4E89-283C-4A5E-9217-1178D8A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5F3F-469C-49F8-AB01-9D4B2355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8E05-AC36-42E1-B752-9E843C9E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3D76-0DBC-4AC2-BCF0-966337A2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194D-FB92-4C64-8CAB-FC95F960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B5C9-0E1F-4EBD-A89A-CEED1A39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3F88-F5BE-488E-A6C4-D40DAFCA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5A18-B6AF-4995-993F-7981311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C66E4-FD78-45C5-B663-D5E0BBBC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98DF-4C05-42AF-804F-B19DA573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32F-F488-4697-96E4-4A97CCFB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CB1C-9AF7-43C6-A2EF-5E35EBEC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AF55-FA5F-47A0-B5EC-635C889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83520-C71B-49BC-9AFB-243A05D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A6E98-E77A-40BF-A179-D3244EB2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9266-1E5A-4DD2-84E5-2FDECD7C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0B62-401E-48D8-A1BB-D69B2604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DFB7-8F05-457C-A1C5-0889BC89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D9FF-E0CB-409B-BE2A-49E9D8E8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CE63-0AB9-430C-B188-A87F68D1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E265-4CF6-49B1-B252-0CBBD883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D5B-C253-499E-B47D-02FA3F4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94CDE-624E-4417-998E-ADACAA40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1753B-81A5-41EE-9420-F220BECC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88D5-CAFA-4A8B-BE0A-C34AC0C1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B309-6EF0-42FE-BCF5-C9864667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200F8-DB76-4750-AD84-5DCA03EB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564E-B574-411B-89D3-AD2F732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D3939-ABD8-4822-A717-BF7B1818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B929-20E3-4848-9295-0BF72203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5CB0-A32C-43F6-B535-30E6855D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FEE4-E045-413E-A3BA-E63A32AD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32B-114D-4315-84E7-595B6CC8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E3EA-0615-4850-B887-2D41356F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B499B-B7F8-45F2-B2A1-CF1A2255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6B488-98B0-4E04-916E-D33A835F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5E73-D4C1-477D-8449-685A7FC6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5140D-86AB-44A1-B0F1-358A25B4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F2A12-D3F2-43B8-A5DB-53E1A168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D92B2-7160-4AC9-8016-3019EFF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5C6CE-8BAF-4573-868A-AD2258E7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62A6-F4BB-4B09-BA1C-E384B1C8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B13D-6550-4351-80D0-9EA5903C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3AF-9331-4DA0-BE74-13CE7C04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42EC-3C25-41AA-8417-A5890A7B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CDE7F-CE75-4E26-A9FF-B6B4C52F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C4D8F-CA33-4227-932B-7E077065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FDD70-04A3-4924-A6B0-E5E944A3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65801-6906-471F-89F9-F28A27D0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B346-E596-47AD-95F7-D3F95EF0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2E57F-7BD0-483F-A2A9-E42E4E15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0EC83-C2DA-48E4-8515-2B16B54C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541E0-0B98-49D0-956A-3AB49E4A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7D53-3D3B-460C-90D6-23511368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EC6-5711-4190-A2F5-FAC6DC4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C0644-3FA7-4927-98DC-58CF7B11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426D7-7EFB-47EC-A7CB-EB93B23B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3DAB6-7050-4B28-B5DD-55525B54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861A-FEE8-4446-9E13-FE80A2A7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86F45-3563-4F34-A9F3-DE936A7A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228FB-FC60-4C29-B4C7-DCCCB18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21F48-1063-44F4-80F5-72D22A2B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A60BC-AAE9-4920-97D6-33C9ABF6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70D07-FFE3-442E-905C-D30760EB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D8798-EAFE-44EB-B263-F8FD1E1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470-1AB2-49C7-9541-5F25EE1D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F31B2-61D3-4534-8A53-CE51992C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88E36-7428-4066-907C-4D6B370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01415-1383-46E4-8872-43E6F56B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76430-A998-4C81-A153-09CF1230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01A08-2A8E-4C21-A286-D15E22F2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1F97A-72E1-4C88-9C92-D09EE0C5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3F965-FD78-4EAD-966C-710D3B21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CD9C-62EE-49C5-B13E-DB4FA4B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3B6B8-E9D6-4F73-91D6-4DEBD445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C8D96-6E6E-49D0-8F84-949D8524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9B9-0D2C-4099-A132-435AE24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B1152-871C-4EBD-8E72-EA4CCFB4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F3AB5-521B-4485-AA61-28F3936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EF63B-22AE-45B2-B9ED-875F7C6A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FA972-3657-4FA8-BD40-D550962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C370A-0FB6-4C3D-8F24-AB2E947A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F1A91-B23D-445E-AA75-A15B4330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82694-2FC6-4A0C-945E-C1CE34F1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5BBCA-FF45-49E5-BE36-5E15CE3F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E54C1-9C37-463B-8319-880D3943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AC4EF-EAC0-4D57-A9E6-E783B1E4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D2ED-2646-4D63-AC1A-CE7C7B3F2BDC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Łącznik prosty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rostokąt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rostokąt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rostokąt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rostokąt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BA9A-058B-42AF-99CF-C0A15F3BCF7A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6B25-E9B0-49A7-BEAE-F5CAC981622D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rostokąt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rostokąt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rostokąt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Łącznik prosty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4F5F-F810-4872-9211-9831AA4E8705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rostokąt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rostokąt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rostokąt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Łącznik prosty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9B72-8711-4AA2-8300-D367ED0654F7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90C6-B694-4FF0-99FA-2A710AF17722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rostokąt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rostokąt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rostokąt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rostokąt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rostokąt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rostokąt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Łącznik prosty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57AC-4966-460B-A032-F4003D269F84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Łącznik prosty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FF24-9ED8-49AB-8DC3-6639AFE45F47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Łącznik prosty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rostokąt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rostokąt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rostokąt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rostokąt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rostokąt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Łącznik prosty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rostokąt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6228-FCE9-430C-B54B-45B572F409E2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0C33-5A3F-49D8-A527-BD62ABA85023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rostokąt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rostokąt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73C4-D176-41C8-96D9-4A0C8B72AC1F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rostokąt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rostokąt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rostokąt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Łącznik prosty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06B4-759E-4000-8CFA-A68784DD311E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d16349"/>
                </a:solidFill>
                <a:latin typeface="Arial"/>
                <a:ea typeface="Arial"/>
              </a:rPr>
              <a:t>Pojęcia z zakresu ruchu drogowego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C:\Users\Marzena\AppData\Local\Microsoft\Windows\Temporary Internet Files\Content.IE5\2RQKC6FH\MC900432435[1].wmf"/>
          <p:cNvPicPr/>
          <p:nvPr/>
        </p:nvPicPr>
        <p:blipFill>
          <a:blip r:embed="rId1"/>
          <a:stretch/>
        </p:blipFill>
        <p:spPr>
          <a:xfrm>
            <a:off x="2556000" y="2924280"/>
            <a:ext cx="40766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obocz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bocze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jest to część drogi przylegają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 jezdni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Może służyć do ruchu pieszych, postoju pojazdów it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11" descr="C:\Users\Marzena\AppData\Local\Microsoft\Windows\Temporary Internet Files\Content.IE5\2RQKC6FH\MC900432323[1].wmf"/>
          <p:cNvPicPr/>
          <p:nvPr/>
        </p:nvPicPr>
        <p:blipFill>
          <a:blip r:embed="rId1"/>
          <a:stretch/>
        </p:blipFill>
        <p:spPr>
          <a:xfrm>
            <a:off x="5357880" y="2432160"/>
            <a:ext cx="2530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ojazd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68360" y="162864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jaz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to środek transportu przeznaczo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 poruszania si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 drodz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C:\Users\Krzysztof\AppData\Local\Microsoft\Windows\Temporary Internet Files\Content.IE5\1JWH5UXW\MC900150140[1].wmf"/>
          <p:cNvPicPr/>
          <p:nvPr/>
        </p:nvPicPr>
        <p:blipFill>
          <a:blip r:embed="rId1"/>
          <a:stretch/>
        </p:blipFill>
        <p:spPr>
          <a:xfrm>
            <a:off x="5724360" y="1628640"/>
            <a:ext cx="3006720" cy="21099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C:\Users\Krzysztof\AppData\Local\Microsoft\Windows\Temporary Internet Files\Content.IE5\1F4AEUNC\MC900432433[1].wmf"/>
          <p:cNvPicPr/>
          <p:nvPr/>
        </p:nvPicPr>
        <p:blipFill>
          <a:blip r:embed="rId2"/>
          <a:stretch/>
        </p:blipFill>
        <p:spPr>
          <a:xfrm>
            <a:off x="6012000" y="4292640"/>
            <a:ext cx="2305080" cy="2108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" descr="C:\Users\Marzena\AppData\Local\Microsoft\Windows\Temporary Internet Files\Content.IE5\G1EVWPQT\MC900320520[1].wmf"/>
          <p:cNvPicPr/>
          <p:nvPr/>
        </p:nvPicPr>
        <p:blipFill>
          <a:blip r:embed="rId3"/>
          <a:stretch/>
        </p:blipFill>
        <p:spPr>
          <a:xfrm>
            <a:off x="2050920" y="4221000"/>
            <a:ext cx="27910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ojazd uprzywilejowan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jazd uprzywilejowany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jazd wysyłający jednocześnie sygnały świetlne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postaci niebieskich świateł błyskowych i sygnały dźwiękowe o zmiennym ton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Picture 2" descr="C:\Users\Krzysztof\AppData\Local\Microsoft\Windows\Temporary Internet Files\Content.IE5\1JWH5UXW\MC900433640[1].wmf"/>
          <p:cNvPicPr/>
          <p:nvPr/>
        </p:nvPicPr>
        <p:blipFill>
          <a:blip r:embed="rId1"/>
          <a:stretch/>
        </p:blipFill>
        <p:spPr>
          <a:xfrm>
            <a:off x="6372360" y="4076640"/>
            <a:ext cx="2322360" cy="1656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C:\Users\Krzysztof\AppData\Local\Microsoft\Windows\Temporary Internet Files\Content.IE5\1F4AEUNC\MC900388716[1].wmf"/>
          <p:cNvPicPr/>
          <p:nvPr/>
        </p:nvPicPr>
        <p:blipFill>
          <a:blip r:embed="rId2"/>
          <a:stretch/>
        </p:blipFill>
        <p:spPr>
          <a:xfrm>
            <a:off x="3708360" y="4005360"/>
            <a:ext cx="2533680" cy="1727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C:\Users\Krzysztof\AppData\Local\Microsoft\Windows\Temporary Internet Files\Content.IE5\1F4AEUNC\MC900320998[1].wmf"/>
          <p:cNvPicPr/>
          <p:nvPr/>
        </p:nvPicPr>
        <p:blipFill>
          <a:blip r:embed="rId3"/>
          <a:stretch/>
        </p:blipFill>
        <p:spPr>
          <a:xfrm>
            <a:off x="324000" y="4005360"/>
            <a:ext cx="2968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ejazd dla rowerzystów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24000" y="1599840"/>
            <a:ext cx="3960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ejazd dla rowerzystów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to część jezdni, torowiska lub drogi dla rowerów przeznaczona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do przejeżdżania przez rowerzystów oraz oznaczona odpowiednimi znakam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2" descr="Plik:Znak D-6a.svg"/>
          <p:cNvPicPr/>
          <p:nvPr/>
        </p:nvPicPr>
        <p:blipFill>
          <a:blip r:embed="rId1"/>
          <a:stretch/>
        </p:blipFill>
        <p:spPr>
          <a:xfrm>
            <a:off x="4427640" y="1844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ejście dla pieszych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78920" y="1599840"/>
            <a:ext cx="3816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ejście dla pieszych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to część jezdni, torowiska lub drogi dla rowerów przeznaczona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 ruchu pieszych oraz oznaczona odpowiednimi znakam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2" descr="Plik:Znak D-6.svg"/>
          <p:cNvPicPr/>
          <p:nvPr/>
        </p:nvPicPr>
        <p:blipFill>
          <a:blip r:embed="rId1"/>
          <a:stretch/>
        </p:blipFill>
        <p:spPr>
          <a:xfrm>
            <a:off x="3995640" y="1557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ystanek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ystanek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jest to miejsce zatrzymywania się pojazdów transportu publicznego. Przystanki oznaczone są odpowiednimi znakami drogowymi.</a:t>
            </a:r>
            <a:br>
              <a:rPr sz="2700"/>
            </a:b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-15 Przystanek autobusowy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-16 Przystanek trolejbusowy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-17 Przystanek tramwajow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2" descr="Plik:Znak D-15.svg"/>
          <p:cNvPicPr/>
          <p:nvPr/>
        </p:nvPicPr>
        <p:blipFill>
          <a:blip r:embed="rId1"/>
          <a:stretch/>
        </p:blipFill>
        <p:spPr>
          <a:xfrm>
            <a:off x="6804000" y="260280"/>
            <a:ext cx="1584360" cy="1981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Plik:Znak D-16.svg"/>
          <p:cNvPicPr/>
          <p:nvPr/>
        </p:nvPicPr>
        <p:blipFill>
          <a:blip r:embed="rId2"/>
          <a:stretch/>
        </p:blipFill>
        <p:spPr>
          <a:xfrm>
            <a:off x="6775560" y="2421000"/>
            <a:ext cx="1612800" cy="2016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Plik:Znak D-17.svg"/>
          <p:cNvPicPr/>
          <p:nvPr/>
        </p:nvPicPr>
        <p:blipFill>
          <a:blip r:embed="rId3"/>
          <a:stretch/>
        </p:blipFill>
        <p:spPr>
          <a:xfrm>
            <a:off x="6775560" y="4581360"/>
            <a:ext cx="1612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Rond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Rondo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krzyżowanie dróg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 ruchu okrężnym,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na którym pojazdy poruszają się wokół centralnej wysepki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kierunku przeciwnym do ruchu wskazówek zega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2" descr="C:\Users\Krzysztof\AppData\Local\Microsoft\Windows\Temporary Internet Files\Content.IE5\1F4AEUNC\MC900432435[1].wmf"/>
          <p:cNvPicPr/>
          <p:nvPr/>
        </p:nvPicPr>
        <p:blipFill>
          <a:blip r:embed="rId1"/>
          <a:stretch/>
        </p:blipFill>
        <p:spPr>
          <a:xfrm>
            <a:off x="4780080" y="1146240"/>
            <a:ext cx="36874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Ruch kierowan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Ruch kierowany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- ruch otwierany i zamykany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za pomocą sygnalizacji świetlnej albo przez uprawnioną osobę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2" descr="C:\Users\Krzysztof\AppData\Local\Microsoft\Windows\Temporary Internet Files\Content.IE5\1F4AEUNC\MC900433882[1].png"/>
          <p:cNvPicPr/>
          <p:nvPr/>
        </p:nvPicPr>
        <p:blipFill>
          <a:blip r:embed="rId1"/>
          <a:stretch/>
        </p:blipFill>
        <p:spPr>
          <a:xfrm>
            <a:off x="2050920" y="2997360"/>
            <a:ext cx="2449800" cy="2447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C:\Users\Krzysztof\AppData\Local\Microsoft\Windows\Temporary Internet Files\Content.IE5\C9O4IJX0\MC900221911[1].wmf"/>
          <p:cNvPicPr/>
          <p:nvPr/>
        </p:nvPicPr>
        <p:blipFill>
          <a:blip r:embed="rId2"/>
          <a:stretch/>
        </p:blipFill>
        <p:spPr>
          <a:xfrm>
            <a:off x="5624640" y="2781360"/>
            <a:ext cx="2066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Skrzyżowanie dróg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2400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krzyżowanie dró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miejscem, gdzie następuje przecinanie się kierunków ruchu, jak również miejscem, gdzie występuje zmiana dotychczasowego kierunku jazd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krzyżowaniem nie jest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dwupoziomowe przecięcie dróg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przecięcie drogi gruntowej z drogą twardą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wjazd do posesji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przecięcie drogi twardej z drogą do np. zajezdni tramwajowej lub autobusowej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Picture 3" descr="C:\Users\Krzysztof\AppData\Local\Microsoft\Windows\Temporary Internet Files\Content.IE5\CTDX1DGY\MC900299751[1].wmf"/>
          <p:cNvPicPr/>
          <p:nvPr/>
        </p:nvPicPr>
        <p:blipFill>
          <a:blip r:embed="rId1"/>
          <a:stretch/>
        </p:blipFill>
        <p:spPr>
          <a:xfrm>
            <a:off x="6804000" y="3213000"/>
            <a:ext cx="2095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7b9899"/>
                </a:solidFill>
                <a:latin typeface="Georgia"/>
              </a:rPr>
              <a:t>Skrzyżowanie dróg równorzędny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24000" y="1483920"/>
            <a:ext cx="8496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krzyżowanie dróg równorzędnych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jest to skrzyżowanie dróg bez określonego pierwszeństwa na których kierunki jazdy oddzielone są podwójną linią ciągłą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krzyżowaniem dróg równorzędnych jest również każde inne połączenie dróg na których w żaden sposób nie jest określone pierwszeństwo przejazdu za pomocą znaków drogowych bądź sygnalizacji świetlnej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5" descr="http://t0.gstatic.com/images?q=tbn:ANd9GcRgimtzhZ0X5ak2bMLQVpDvM9JTz5EdeApFeUWM3qu84UV2vxYw"/>
          <p:cNvPicPr/>
          <p:nvPr/>
        </p:nvPicPr>
        <p:blipFill>
          <a:blip r:embed="rId1"/>
          <a:stretch/>
        </p:blipFill>
        <p:spPr>
          <a:xfrm>
            <a:off x="3708360" y="5013360"/>
            <a:ext cx="18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Autostrad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599840"/>
            <a:ext cx="526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Autostrad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to droga dwujezdniowa oznaczona za pomocą odpowiednich znaków, na której nie dopuszcza się ruchu poprzecznego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rzeznaczona wyłącznie do ruchu pojazdów samochodowych, które potrafią rozwinąć prędkość od 40km/h na równej, poziomej nawierzchni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http://www.automotopedia.pl/pliki/ed/Infrastruktura%20drogowa/406px-znak_d9.svg.png"/>
          <p:cNvPicPr/>
          <p:nvPr/>
        </p:nvPicPr>
        <p:blipFill>
          <a:blip r:embed="rId1"/>
          <a:stretch/>
        </p:blipFill>
        <p:spPr>
          <a:xfrm>
            <a:off x="5940360" y="1413000"/>
            <a:ext cx="1941480" cy="2447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http://t3.gstatic.com/images?q=tbn:ANd9GcQ5AMM7EHI71d3XXuDTtTeKugl4ouev-Ep9njUdYWYAGo4RPzafHBSdly6o"/>
          <p:cNvPicPr/>
          <p:nvPr/>
        </p:nvPicPr>
        <p:blipFill>
          <a:blip r:embed="rId2"/>
          <a:stretch/>
        </p:blipFill>
        <p:spPr>
          <a:xfrm>
            <a:off x="6084720" y="4005360"/>
            <a:ext cx="19051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Strefa zamieszkani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Strefa zamieszkania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to obszar obejmujący drogi publiczne i inne drogi, na którym obowiązują szczególne zasady ruchu drogowego, a wjazdy i wyjazdu oznaczone są odpowiednimi znakami.</a:t>
            </a:r>
            <a:br>
              <a:rPr sz="2500"/>
            </a:br>
            <a:br>
              <a:rPr sz="2500"/>
            </a:b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D-40 Strefa zamieszkania</a:t>
            </a:r>
            <a:br>
              <a:rPr sz="2500"/>
            </a:b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D-41 Koniec strefy zamieszkani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3" name="Picture 2" descr="Plik:Znak D-40.svg"/>
          <p:cNvPicPr/>
          <p:nvPr/>
        </p:nvPicPr>
        <p:blipFill>
          <a:blip r:embed="rId1"/>
          <a:stretch/>
        </p:blipFill>
        <p:spPr>
          <a:xfrm>
            <a:off x="4791240" y="1628640"/>
            <a:ext cx="3692520" cy="2160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Plik:Znak D-41.svg"/>
          <p:cNvPicPr/>
          <p:nvPr/>
        </p:nvPicPr>
        <p:blipFill>
          <a:blip r:embed="rId2"/>
          <a:stretch/>
        </p:blipFill>
        <p:spPr>
          <a:xfrm>
            <a:off x="4819680" y="3933720"/>
            <a:ext cx="3700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Szczególna ostrożność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94920" y="1599840"/>
            <a:ext cx="5040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zczególna ostrożność -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lega na zwiększeniu uwagi i dostosowaniu zachowania uczestników ruchu do warunków i sytuacji zmieniających się na drodze, w stopniu umożliwiającym odpowiednio szybkie reagowan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7" name="Picture 1" descr="C:\Users\Marzena\AppData\Local\Microsoft\Windows\Temporary Internet Files\Content.IE5\LW2ZZFIX\MC900078790[1].wmf"/>
          <p:cNvPicPr/>
          <p:nvPr/>
        </p:nvPicPr>
        <p:blipFill>
          <a:blip r:embed="rId1"/>
          <a:stretch/>
        </p:blipFill>
        <p:spPr>
          <a:xfrm>
            <a:off x="5576760" y="2997360"/>
            <a:ext cx="2781360" cy="2663640"/>
          </a:xfrm>
          <a:prstGeom prst="rect">
            <a:avLst/>
          </a:prstGeom>
          <a:ln w="0">
            <a:noFill/>
          </a:ln>
        </p:spPr>
      </p:pic>
      <p:sp>
        <p:nvSpPr>
          <p:cNvPr id="678" name="pole tekstowe 5"/>
          <p:cNvSpPr/>
          <p:nvPr/>
        </p:nvSpPr>
        <p:spPr>
          <a:xfrm>
            <a:off x="7380360" y="32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Uczestnik ruchu drogoweg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50560" y="159984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Uczestnik ruchu drogowego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ieszy, kierujący,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a także inne osoby przebywające w pojeździe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lub na pojeździe znajdującym się na drodz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1" name="Picture 3" descr="C:\Users\Krzysztof\AppData\Local\Microsoft\Windows\Temporary Internet Files\Content.IE5\C9O4IJX0\MC900360920[1].wmf"/>
          <p:cNvPicPr/>
          <p:nvPr/>
        </p:nvPicPr>
        <p:blipFill>
          <a:blip r:embed="rId1"/>
          <a:stretch/>
        </p:blipFill>
        <p:spPr>
          <a:xfrm>
            <a:off x="5940360" y="3068640"/>
            <a:ext cx="2600280" cy="18730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" descr="C:\Users\Krzysztof\AppData\Local\Microsoft\Windows\Temporary Internet Files\Content.IE5\1JWH5UXW\MC900338450[1].wmf"/>
          <p:cNvPicPr/>
          <p:nvPr/>
        </p:nvPicPr>
        <p:blipFill>
          <a:blip r:embed="rId2"/>
          <a:stretch/>
        </p:blipFill>
        <p:spPr>
          <a:xfrm>
            <a:off x="395280" y="3500280"/>
            <a:ext cx="2459160" cy="18003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C:\Users\Krzysztof\AppData\Local\Microsoft\Windows\Temporary Internet Files\Content.IE5\1JWH5UXW\MC900197731[1].wmf"/>
          <p:cNvPicPr/>
          <p:nvPr/>
        </p:nvPicPr>
        <p:blipFill>
          <a:blip r:embed="rId3"/>
          <a:stretch/>
        </p:blipFill>
        <p:spPr>
          <a:xfrm>
            <a:off x="2938320" y="4724280"/>
            <a:ext cx="31528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Chodnik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Chodnik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jest to część drogi przeznaczona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do ruchu pieszych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1" descr="C:\Users\Marzena\AppData\Local\Microsoft\Windows\Temporary Internet Files\Content.IE5\EFW7420A\MC900432323[1].wmf"/>
          <p:cNvPicPr/>
          <p:nvPr/>
        </p:nvPicPr>
        <p:blipFill>
          <a:blip r:embed="rId1"/>
          <a:stretch/>
        </p:blipFill>
        <p:spPr>
          <a:xfrm>
            <a:off x="4780080" y="2414520"/>
            <a:ext cx="315108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Drog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78598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roga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 to miejsce przeznaczone do ruchu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i postoju pojazdów oraz do ruchu pieszych (łącznie z poboczem, a także z torowiskiem pojazdów szynowych znajdujących się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obrębie pasa drogowego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1" descr="C:\Users\Marzena\AppData\Local\Microsoft\Windows\Temporary Internet Files\Content.IE5\G1EVWPQT\MC900434207[1].wmf"/>
          <p:cNvPicPr/>
          <p:nvPr/>
        </p:nvPicPr>
        <p:blipFill>
          <a:blip r:embed="rId1"/>
          <a:stretch/>
        </p:blipFill>
        <p:spPr>
          <a:xfrm>
            <a:off x="2340000" y="4221000"/>
            <a:ext cx="4314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  <a:ea typeface="Arial"/>
              </a:rPr>
              <a:t>Droga ekspresow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roga ekspresow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to droga jedn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i dwujezdniowa oznaczona za pomocą odpowiednich znaków, przeznaczona wyłącznie do ruchu pojazdów samochodow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2" descr="Plik:Znak D7.svg"/>
          <p:cNvPicPr/>
          <p:nvPr/>
        </p:nvPicPr>
        <p:blipFill>
          <a:blip r:embed="rId1"/>
          <a:stretch/>
        </p:blipFill>
        <p:spPr>
          <a:xfrm>
            <a:off x="5175360" y="1700280"/>
            <a:ext cx="36957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Jezdni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362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Georgia"/>
              </a:rPr>
              <a:t>Jezdnia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 to część drogi przeznaczona do ruchu pojazdów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Ze względu na kierunek poruszania się pojazdów jezdnie mogą być dwukierunkowe lub jednokierunkowe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Jezdnia dwukierunkowa przeznaczona jest do ruchu pojazdów w obu przeciwnych kierunkach, natomiast jezdnia jednokierunkowa - tylko do ruchu w jednym określonym kierunku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7" descr="C:\Users\Marzena\AppData\Local\Microsoft\Windows\Temporary Internet Files\Content.IE5\G1EVWPQT\MC900429615[1].wmf"/>
          <p:cNvPicPr/>
          <p:nvPr/>
        </p:nvPicPr>
        <p:blipFill>
          <a:blip r:embed="rId1"/>
          <a:stretch/>
        </p:blipFill>
        <p:spPr>
          <a:xfrm>
            <a:off x="3203640" y="4505400"/>
            <a:ext cx="28083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Kierując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Kierujący to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soba, która kieruje pojazde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raz osoba, która prowadzi zorganizowaną grupę piesz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4" descr="C:\Users\Marzena\AppData\Local\Microsoft\Windows\Temporary Internet Files\Content.IE5\EFW7420A\MC900216706[1].wmf"/>
          <p:cNvPicPr/>
          <p:nvPr/>
        </p:nvPicPr>
        <p:blipFill>
          <a:blip r:embed="rId1"/>
          <a:stretch/>
        </p:blipFill>
        <p:spPr>
          <a:xfrm>
            <a:off x="2484360" y="3645000"/>
            <a:ext cx="3187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Obszar zabudowan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2364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Obszar zabudowan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jest to obszar oznaczony znakami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-42 Obszar zabudowany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-43 Koniec obszaru zabudowaneg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2" descr="Plik:Znak d42.svg"/>
          <p:cNvPicPr/>
          <p:nvPr/>
        </p:nvPicPr>
        <p:blipFill>
          <a:blip r:embed="rId1"/>
          <a:stretch/>
        </p:blipFill>
        <p:spPr>
          <a:xfrm>
            <a:off x="4716360" y="2565360"/>
            <a:ext cx="4048200" cy="16192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Plik:Znak d43.svg"/>
          <p:cNvPicPr/>
          <p:nvPr/>
        </p:nvPicPr>
        <p:blipFill>
          <a:blip r:embed="rId2"/>
          <a:stretch/>
        </p:blipFill>
        <p:spPr>
          <a:xfrm>
            <a:off x="4716360" y="4653000"/>
            <a:ext cx="3971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as ruchu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as ruchu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każdy z podłużnych pasów jezdni wystarczający do ruchu jednego rzędu pojazdów wielośladow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C:\Users\Marzena\AppData\Local\Microsoft\Windows\Temporary Internet Files\Content.IE5\G1EVWPQT\MM900286792[2].gif"/>
          <p:cNvPicPr/>
          <p:nvPr/>
        </p:nvPicPr>
        <p:blipFill>
          <a:blip r:embed="rId1"/>
          <a:stretch/>
        </p:blipFill>
        <p:spPr>
          <a:xfrm>
            <a:off x="5148360" y="2708280"/>
            <a:ext cx="29671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31:49Z</dcterms:created>
  <dc:creator>Krzysztof</dc:creator>
  <dc:description/>
  <dc:language>en-US</dc:language>
  <cp:lastModifiedBy>Marzena</cp:lastModifiedBy>
  <dcterms:modified xsi:type="dcterms:W3CDTF">2013-07-31T14:00:26Z</dcterms:modified>
  <cp:revision>25</cp:revision>
  <dc:subject/>
  <dc:title>Pojęcia z zakresu ruchu drogowego</dc:title>
</cp:coreProperties>
</file>